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C99B-D4B2-4EBA-ADF3-017640C3E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2C26-3FB9-47C9-A20E-5753DFE0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419C-D081-4D0B-BE7D-B4030788F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E196-DE6A-4D03-B745-4F76AAA36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4CBE-9460-496B-AC34-B448880F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09AA-1D44-47DF-B174-905B924F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465E-65E8-401E-B764-4DBBF267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E20B-883C-43AE-A68F-E07FB33B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AE04-B013-486C-9DE7-B37CCFA1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9189-6120-46E4-BED3-89B9983A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07B3-5242-4598-B7D1-A3898DB2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35C1-14D3-4CD7-89D0-49024457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0555-AB3D-462C-BED6-D9A05487D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wikispaces.com/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98800" y="83160"/>
              <a:ext cx="56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?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73680" y="91080"/>
              <a:ext cx="407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Quiz 1 and Acc Mat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69640" y="9907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rm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7280" y="178452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  Solve  3 + x =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7120" y="2971800"/>
            <a:ext cx="54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 Evaluate 2x +8   for x= 3, 6, and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9080" y="4114800"/>
            <a:ext cx="25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.  Solve:  4 – (-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9240" y="510552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.  Solve:  -7 – (-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44120" y="18288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X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45480" y="297180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14, 20, 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87920" y="4038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11600" y="5029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8800" y="83160"/>
              <a:ext cx="56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?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73680" y="91080"/>
              <a:ext cx="407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Quiz 1 and Acc Mat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895480" y="685800"/>
            <a:ext cx="29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Verdana"/>
              </a:rPr>
              <a:t>Acc Ma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1371600"/>
            <a:ext cx="8610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ACC MATH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3300"/>
                </a:solidFill>
                <a:latin typeface="Verdana"/>
              </a:rPr>
              <a:t>Show me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 your worksheet and “the work” before you scan for a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Test are to be done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BY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After you scan a test, </a:t>
            </a:r>
            <a:r>
              <a:rPr b="1" lang="en-US" sz="2800" spc="-1" strike="noStrike">
                <a:solidFill>
                  <a:srgbClr val="003300"/>
                </a:solidFill>
                <a:latin typeface="Verdana"/>
              </a:rPr>
              <a:t>Tell ME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, so you are 100% sure that I hear, your test sc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3300"/>
                </a:solidFill>
                <a:latin typeface="Verdana"/>
              </a:rPr>
              <a:t>Before continuing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, correct ALL the items you missed on the test.  </a:t>
            </a:r>
            <a:r>
              <a:rPr b="1" lang="en-US" sz="2800" spc="-1" strike="noStrike">
                <a:solidFill>
                  <a:srgbClr val="003300"/>
                </a:solidFill>
                <a:latin typeface="Verdana"/>
              </a:rPr>
              <a:t>All I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98800" y="83160"/>
              <a:ext cx="56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?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73680" y="91080"/>
              <a:ext cx="407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Quiz 1 and Acc Mat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895480" y="685800"/>
            <a:ext cx="29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Verdana"/>
              </a:rPr>
              <a:t>Acc Ma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1752480"/>
            <a:ext cx="792468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I expect about 35 objectives this qua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I a using ACC MATH differently this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Objectives are tied loosely to the curricul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I am not teaching with ACC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Please understand, lots of scans at less than 85% is a very very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BAD THING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98800" y="83160"/>
              <a:ext cx="56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?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73680" y="91080"/>
              <a:ext cx="407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Quiz 1 and Acc Mat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4920" y="990720"/>
            <a:ext cx="8505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Quiz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This is not an all period test. About 25 minutes,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If you are allowed more time, I will collect your paper and have Ms Niermeyer finish the quiz with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Do your own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You may use calculator and your 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If I see your eyes even looking toward another person, or you talk, be prepared for the wo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re there any questions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8800" y="83160"/>
              <a:ext cx="56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?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73680" y="91080"/>
              <a:ext cx="407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Quiz 1 and Acc Mat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22560" y="946080"/>
            <a:ext cx="300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st Block answ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1905120"/>
            <a:ext cx="1066680" cy="46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1981080"/>
            <a:ext cx="1066680" cy="46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981080"/>
            <a:ext cx="1066680" cy="36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9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1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2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lain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lain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lain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72200" y="4038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Alphabet W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8800" y="83160"/>
              <a:ext cx="56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?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173680" y="91080"/>
              <a:ext cx="407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Quiz 1 and Acc Mat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377280" y="946080"/>
            <a:ext cx="384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3d Block answ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1981080"/>
            <a:ext cx="20574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19520" y="20574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68000" y="1981080"/>
            <a:ext cx="1933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. 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4038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Alphabet W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8800" y="83160"/>
              <a:ext cx="56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?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73680" y="91080"/>
              <a:ext cx="407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Quiz 1 and Acc Mat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304920" y="990720"/>
            <a:ext cx="8505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WIKI and ENG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Verdana"/>
              </a:rPr>
              <a:t>Again, my ENGRADE CODE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3300"/>
                </a:solidFill>
                <a:latin typeface="Verdana"/>
              </a:rPr>
              <a:t>engrade-tcjcinnb-xxxx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Verdana"/>
              </a:rPr>
              <a:t>WIKI info provided to parents.  Here is my wik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Verdana"/>
              </a:rPr>
              <a:t>You need to be on ENGRADE so parents can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sign your agenda TOMORROW</a:t>
            </a:r>
            <a:r>
              <a:rPr b="1" lang="en-US" sz="3200" spc="-1" strike="noStrike">
                <a:solidFill>
                  <a:srgbClr val="0033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3"/>
          </p:cNvPr>
          <p:cNvSpPr/>
          <p:nvPr/>
        </p:nvSpPr>
        <p:spPr>
          <a:xfrm>
            <a:off x="4267080" y="4038480"/>
            <a:ext cx="533520" cy="609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8800" y="83160"/>
              <a:ext cx="56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?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73680" y="91080"/>
              <a:ext cx="407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Quiz 1 and Acc Mat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873520" y="946080"/>
            <a:ext cx="29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Verdana"/>
              </a:rPr>
              <a:t>Acc Ma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1600200"/>
            <a:ext cx="8839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Verdana"/>
              </a:rPr>
              <a:t>ACC Math is EXTREMELY IMPOR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Verdana"/>
              </a:rPr>
              <a:t>Your ACC Math effort shows both your knowledge and your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Verdana"/>
              </a:rPr>
              <a:t>I expect LOTS of Objectives to be mastered per qu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Verdana"/>
              </a:rPr>
              <a:t>The goal is NOT to scan a lot, but to get all of your scans CORRECT!!!!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98800" y="83160"/>
              <a:ext cx="56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?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73680" y="91080"/>
              <a:ext cx="407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Quiz 1 and Acc Mat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895480" y="685800"/>
            <a:ext cx="29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Verdana"/>
              </a:rPr>
              <a:t>Acc Ma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7520" y="5261040"/>
            <a:ext cx="747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Are there any ques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600" y="1752480"/>
            <a:ext cx="8750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I have a bin in the back where we keep fol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Try to keep it nea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tore folders by team, in the green hanging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If I do not have enough, now, store with someone on your team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8800" y="83160"/>
              <a:ext cx="56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?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73680" y="91080"/>
              <a:ext cx="407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Quiz 1 and Acc Mat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873520" y="946080"/>
            <a:ext cx="29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Verdana"/>
              </a:rPr>
              <a:t>Acc Ma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1600200"/>
            <a:ext cx="8610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SCAN AT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Verdana"/>
              </a:rPr>
              <a:t>85%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n’t just go through the motions and scan.  Scan CORREC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I do not want to see Practices, Tests, or Exercises at less than 8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SHOW WORK on your paper, not just answ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Verdana"/>
              </a:rPr>
              <a:t>The little green 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8800" y="83160"/>
              <a:ext cx="56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?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73680" y="91080"/>
              <a:ext cx="407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Quiz 1 and Acc Mat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895480" y="685800"/>
            <a:ext cx="29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Verdana"/>
              </a:rPr>
              <a:t>Acc Ma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1371600"/>
            <a:ext cx="861048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BEFORE YOU ASK ME A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Check your notes, check your book (look in table of contents), check your team…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AskamillionB4ME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NEVER 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EVER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EVER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 have more than 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n line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 to ask me a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21:42:53Z</dcterms:created>
  <dc:creator>Manda Reid</dc:creator>
  <dc:description/>
  <dc:language>en-US</dc:language>
  <cp:lastModifiedBy>admin</cp:lastModifiedBy>
  <cp:lastPrinted>2002-10-02T17:02:09Z</cp:lastPrinted>
  <dcterms:modified xsi:type="dcterms:W3CDTF">2010-07-22T13:45:56Z</dcterms:modified>
  <cp:revision>83</cp:revision>
  <dc:subject/>
  <dc:title>No Slide Title</dc:title>
</cp:coreProperties>
</file>